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07B7-B4C0-4FC1-9978-86169C475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9857-4FC6-4B16-885A-45A9EA93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EF1C-4967-485B-ACB0-6C5244050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EC18-03A8-41BD-9137-6B63A2D92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A20D-CBC9-4601-9FF0-0EDEC017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1E5E-7722-433F-B3EA-7E148D65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1030-27C7-456C-BFF8-38C4574F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AA57-9FD5-41F1-BD78-08EC3FA3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A836-43CD-4266-A208-96C69A51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4786-D126-42AB-9A1B-6BFEFEAD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AA8A-E9FA-47D8-A22F-B71A5E7C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ACA0-1C6E-4EDF-9E24-F3E1E30E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7A55-EBFF-470B-A1AA-8230C4E77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VALENT FRACTION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3"/>
          <p:cNvSpPr/>
          <p:nvPr/>
        </p:nvSpPr>
        <p:spPr>
          <a:xfrm>
            <a:off x="4191120" y="365760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135160" y="54100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1981080" y="6095880"/>
            <a:ext cx="762120" cy="15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135160" y="60339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859440" y="54100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6705720" y="6095880"/>
            <a:ext cx="761760" cy="15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6859440" y="60339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497480" y="5486400"/>
            <a:ext cx="61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762120" y="2057400"/>
            <a:ext cx="3124080" cy="3124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2362320" y="2057400"/>
            <a:ext cx="1440" cy="3124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4"/>
          <p:cNvSpPr/>
          <p:nvPr/>
        </p:nvSpPr>
        <p:spPr>
          <a:xfrm>
            <a:off x="2351160" y="3581280"/>
            <a:ext cx="1535040" cy="1600200"/>
          </a:xfrm>
          <a:custGeom>
            <a:avLst/>
            <a:gdLst/>
            <a:ahLst/>
            <a:rect l="l" t="t" r="r" b="b"/>
            <a:pathLst>
              <a:path w="1344" h="1296">
                <a:moveTo>
                  <a:pt x="41" y="0"/>
                </a:moveTo>
                <a:cubicBezTo>
                  <a:pt x="0" y="123"/>
                  <a:pt x="23" y="18"/>
                  <a:pt x="23" y="175"/>
                </a:cubicBezTo>
                <a:cubicBezTo>
                  <a:pt x="23" y="455"/>
                  <a:pt x="0" y="278"/>
                  <a:pt x="0" y="576"/>
                </a:cubicBezTo>
                <a:cubicBezTo>
                  <a:pt x="0" y="736"/>
                  <a:pt x="23" y="420"/>
                  <a:pt x="23" y="876"/>
                </a:cubicBezTo>
                <a:cubicBezTo>
                  <a:pt x="6" y="1016"/>
                  <a:pt x="14" y="1068"/>
                  <a:pt x="23" y="1138"/>
                </a:cubicBezTo>
                <a:cubicBezTo>
                  <a:pt x="26" y="1162"/>
                  <a:pt x="40" y="1246"/>
                  <a:pt x="58" y="1261"/>
                </a:cubicBezTo>
                <a:cubicBezTo>
                  <a:pt x="81" y="1280"/>
                  <a:pt x="187" y="1273"/>
                  <a:pt x="217" y="1278"/>
                </a:cubicBezTo>
                <a:cubicBezTo>
                  <a:pt x="446" y="1226"/>
                  <a:pt x="252" y="1296"/>
                  <a:pt x="323" y="1243"/>
                </a:cubicBezTo>
                <a:cubicBezTo>
                  <a:pt x="375" y="1243"/>
                  <a:pt x="503" y="1212"/>
                  <a:pt x="534" y="1191"/>
                </a:cubicBezTo>
                <a:cubicBezTo>
                  <a:pt x="569" y="1168"/>
                  <a:pt x="604" y="1161"/>
                  <a:pt x="640" y="1138"/>
                </a:cubicBezTo>
                <a:cubicBezTo>
                  <a:pt x="673" y="1116"/>
                  <a:pt x="712" y="1108"/>
                  <a:pt x="745" y="1086"/>
                </a:cubicBezTo>
                <a:cubicBezTo>
                  <a:pt x="757" y="1068"/>
                  <a:pt x="887" y="976"/>
                  <a:pt x="904" y="963"/>
                </a:cubicBezTo>
                <a:cubicBezTo>
                  <a:pt x="918" y="951"/>
                  <a:pt x="817" y="1025"/>
                  <a:pt x="833" y="1016"/>
                </a:cubicBezTo>
                <a:cubicBezTo>
                  <a:pt x="885" y="990"/>
                  <a:pt x="1084" y="715"/>
                  <a:pt x="1133" y="683"/>
                </a:cubicBezTo>
                <a:cubicBezTo>
                  <a:pt x="1145" y="666"/>
                  <a:pt x="1115" y="753"/>
                  <a:pt x="1045" y="806"/>
                </a:cubicBezTo>
                <a:cubicBezTo>
                  <a:pt x="974" y="876"/>
                  <a:pt x="1200" y="591"/>
                  <a:pt x="1221" y="560"/>
                </a:cubicBezTo>
                <a:cubicBezTo>
                  <a:pt x="1344" y="175"/>
                  <a:pt x="1260" y="441"/>
                  <a:pt x="1309" y="298"/>
                </a:cubicBezTo>
                <a:cubicBezTo>
                  <a:pt x="1309" y="158"/>
                  <a:pt x="1344" y="140"/>
                  <a:pt x="1309" y="0"/>
                </a:cubicBezTo>
                <a:cubicBezTo>
                  <a:pt x="816" y="18"/>
                  <a:pt x="1204" y="36"/>
                  <a:pt x="41" y="0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5"/>
          <p:cNvSpPr/>
          <p:nvPr/>
        </p:nvSpPr>
        <p:spPr>
          <a:xfrm>
            <a:off x="5486400" y="2133720"/>
            <a:ext cx="3124080" cy="3124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7086600" y="2133720"/>
            <a:ext cx="1440" cy="3124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23"/>
          <p:cNvSpPr/>
          <p:nvPr/>
        </p:nvSpPr>
        <p:spPr>
          <a:xfrm rot="16200000">
            <a:off x="2328840" y="2090520"/>
            <a:ext cx="1600200" cy="1533240"/>
          </a:xfrm>
          <a:custGeom>
            <a:avLst/>
            <a:gdLst/>
            <a:ahLst/>
            <a:rect l="l" t="t" r="r" b="b"/>
            <a:pathLst>
              <a:path w="1344" h="1296">
                <a:moveTo>
                  <a:pt x="41" y="0"/>
                </a:moveTo>
                <a:cubicBezTo>
                  <a:pt x="0" y="123"/>
                  <a:pt x="23" y="18"/>
                  <a:pt x="23" y="175"/>
                </a:cubicBezTo>
                <a:cubicBezTo>
                  <a:pt x="23" y="455"/>
                  <a:pt x="0" y="278"/>
                  <a:pt x="0" y="576"/>
                </a:cubicBezTo>
                <a:cubicBezTo>
                  <a:pt x="0" y="736"/>
                  <a:pt x="23" y="420"/>
                  <a:pt x="23" y="876"/>
                </a:cubicBezTo>
                <a:cubicBezTo>
                  <a:pt x="6" y="1016"/>
                  <a:pt x="14" y="1068"/>
                  <a:pt x="23" y="1138"/>
                </a:cubicBezTo>
                <a:cubicBezTo>
                  <a:pt x="26" y="1162"/>
                  <a:pt x="40" y="1246"/>
                  <a:pt x="58" y="1261"/>
                </a:cubicBezTo>
                <a:cubicBezTo>
                  <a:pt x="81" y="1280"/>
                  <a:pt x="187" y="1273"/>
                  <a:pt x="217" y="1278"/>
                </a:cubicBezTo>
                <a:cubicBezTo>
                  <a:pt x="446" y="1226"/>
                  <a:pt x="252" y="1296"/>
                  <a:pt x="323" y="1243"/>
                </a:cubicBezTo>
                <a:cubicBezTo>
                  <a:pt x="375" y="1243"/>
                  <a:pt x="503" y="1212"/>
                  <a:pt x="534" y="1191"/>
                </a:cubicBezTo>
                <a:cubicBezTo>
                  <a:pt x="569" y="1168"/>
                  <a:pt x="604" y="1161"/>
                  <a:pt x="640" y="1138"/>
                </a:cubicBezTo>
                <a:cubicBezTo>
                  <a:pt x="673" y="1116"/>
                  <a:pt x="712" y="1108"/>
                  <a:pt x="745" y="1086"/>
                </a:cubicBezTo>
                <a:cubicBezTo>
                  <a:pt x="757" y="1068"/>
                  <a:pt x="887" y="976"/>
                  <a:pt x="904" y="963"/>
                </a:cubicBezTo>
                <a:cubicBezTo>
                  <a:pt x="918" y="951"/>
                  <a:pt x="817" y="1025"/>
                  <a:pt x="833" y="1016"/>
                </a:cubicBezTo>
                <a:cubicBezTo>
                  <a:pt x="885" y="990"/>
                  <a:pt x="1084" y="715"/>
                  <a:pt x="1133" y="683"/>
                </a:cubicBezTo>
                <a:cubicBezTo>
                  <a:pt x="1145" y="666"/>
                  <a:pt x="1115" y="753"/>
                  <a:pt x="1045" y="806"/>
                </a:cubicBezTo>
                <a:cubicBezTo>
                  <a:pt x="974" y="876"/>
                  <a:pt x="1200" y="591"/>
                  <a:pt x="1221" y="560"/>
                </a:cubicBezTo>
                <a:cubicBezTo>
                  <a:pt x="1344" y="175"/>
                  <a:pt x="1260" y="441"/>
                  <a:pt x="1309" y="298"/>
                </a:cubicBezTo>
                <a:cubicBezTo>
                  <a:pt x="1309" y="158"/>
                  <a:pt x="1344" y="140"/>
                  <a:pt x="1309" y="0"/>
                </a:cubicBezTo>
                <a:cubicBezTo>
                  <a:pt x="816" y="18"/>
                  <a:pt x="1204" y="36"/>
                  <a:pt x="41" y="0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24"/>
          <p:cNvSpPr/>
          <p:nvPr/>
        </p:nvSpPr>
        <p:spPr>
          <a:xfrm>
            <a:off x="7075440" y="3657600"/>
            <a:ext cx="1535040" cy="1600200"/>
          </a:xfrm>
          <a:custGeom>
            <a:avLst/>
            <a:gdLst/>
            <a:ahLst/>
            <a:rect l="l" t="t" r="r" b="b"/>
            <a:pathLst>
              <a:path w="1344" h="1296">
                <a:moveTo>
                  <a:pt x="41" y="0"/>
                </a:moveTo>
                <a:cubicBezTo>
                  <a:pt x="0" y="123"/>
                  <a:pt x="23" y="18"/>
                  <a:pt x="23" y="175"/>
                </a:cubicBezTo>
                <a:cubicBezTo>
                  <a:pt x="23" y="455"/>
                  <a:pt x="0" y="278"/>
                  <a:pt x="0" y="576"/>
                </a:cubicBezTo>
                <a:cubicBezTo>
                  <a:pt x="0" y="736"/>
                  <a:pt x="23" y="420"/>
                  <a:pt x="23" y="876"/>
                </a:cubicBezTo>
                <a:cubicBezTo>
                  <a:pt x="6" y="1016"/>
                  <a:pt x="14" y="1068"/>
                  <a:pt x="23" y="1138"/>
                </a:cubicBezTo>
                <a:cubicBezTo>
                  <a:pt x="26" y="1162"/>
                  <a:pt x="40" y="1246"/>
                  <a:pt x="58" y="1261"/>
                </a:cubicBezTo>
                <a:cubicBezTo>
                  <a:pt x="81" y="1280"/>
                  <a:pt x="187" y="1273"/>
                  <a:pt x="217" y="1278"/>
                </a:cubicBezTo>
                <a:cubicBezTo>
                  <a:pt x="446" y="1226"/>
                  <a:pt x="252" y="1296"/>
                  <a:pt x="323" y="1243"/>
                </a:cubicBezTo>
                <a:cubicBezTo>
                  <a:pt x="375" y="1243"/>
                  <a:pt x="503" y="1212"/>
                  <a:pt x="534" y="1191"/>
                </a:cubicBezTo>
                <a:cubicBezTo>
                  <a:pt x="569" y="1168"/>
                  <a:pt x="604" y="1161"/>
                  <a:pt x="640" y="1138"/>
                </a:cubicBezTo>
                <a:cubicBezTo>
                  <a:pt x="673" y="1116"/>
                  <a:pt x="712" y="1108"/>
                  <a:pt x="745" y="1086"/>
                </a:cubicBezTo>
                <a:cubicBezTo>
                  <a:pt x="757" y="1068"/>
                  <a:pt x="887" y="976"/>
                  <a:pt x="904" y="963"/>
                </a:cubicBezTo>
                <a:cubicBezTo>
                  <a:pt x="918" y="951"/>
                  <a:pt x="817" y="1025"/>
                  <a:pt x="833" y="1016"/>
                </a:cubicBezTo>
                <a:cubicBezTo>
                  <a:pt x="885" y="990"/>
                  <a:pt x="1084" y="715"/>
                  <a:pt x="1133" y="683"/>
                </a:cubicBezTo>
                <a:cubicBezTo>
                  <a:pt x="1145" y="666"/>
                  <a:pt x="1115" y="753"/>
                  <a:pt x="1045" y="806"/>
                </a:cubicBezTo>
                <a:cubicBezTo>
                  <a:pt x="974" y="876"/>
                  <a:pt x="1200" y="591"/>
                  <a:pt x="1221" y="560"/>
                </a:cubicBezTo>
                <a:cubicBezTo>
                  <a:pt x="1344" y="175"/>
                  <a:pt x="1260" y="441"/>
                  <a:pt x="1309" y="298"/>
                </a:cubicBezTo>
                <a:cubicBezTo>
                  <a:pt x="1309" y="158"/>
                  <a:pt x="1344" y="140"/>
                  <a:pt x="1309" y="0"/>
                </a:cubicBezTo>
                <a:cubicBezTo>
                  <a:pt x="816" y="18"/>
                  <a:pt x="1204" y="36"/>
                  <a:pt x="41" y="0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25"/>
          <p:cNvSpPr/>
          <p:nvPr/>
        </p:nvSpPr>
        <p:spPr>
          <a:xfrm rot="16200000">
            <a:off x="7053120" y="2166480"/>
            <a:ext cx="1600200" cy="1533600"/>
          </a:xfrm>
          <a:custGeom>
            <a:avLst/>
            <a:gdLst/>
            <a:ahLst/>
            <a:rect l="l" t="t" r="r" b="b"/>
            <a:pathLst>
              <a:path w="1344" h="1296">
                <a:moveTo>
                  <a:pt x="41" y="0"/>
                </a:moveTo>
                <a:cubicBezTo>
                  <a:pt x="0" y="123"/>
                  <a:pt x="23" y="18"/>
                  <a:pt x="23" y="175"/>
                </a:cubicBezTo>
                <a:cubicBezTo>
                  <a:pt x="23" y="455"/>
                  <a:pt x="0" y="278"/>
                  <a:pt x="0" y="576"/>
                </a:cubicBezTo>
                <a:cubicBezTo>
                  <a:pt x="0" y="736"/>
                  <a:pt x="23" y="420"/>
                  <a:pt x="23" y="876"/>
                </a:cubicBezTo>
                <a:cubicBezTo>
                  <a:pt x="6" y="1016"/>
                  <a:pt x="14" y="1068"/>
                  <a:pt x="23" y="1138"/>
                </a:cubicBezTo>
                <a:cubicBezTo>
                  <a:pt x="26" y="1162"/>
                  <a:pt x="40" y="1246"/>
                  <a:pt x="58" y="1261"/>
                </a:cubicBezTo>
                <a:cubicBezTo>
                  <a:pt x="81" y="1280"/>
                  <a:pt x="187" y="1273"/>
                  <a:pt x="217" y="1278"/>
                </a:cubicBezTo>
                <a:cubicBezTo>
                  <a:pt x="446" y="1226"/>
                  <a:pt x="252" y="1296"/>
                  <a:pt x="323" y="1243"/>
                </a:cubicBezTo>
                <a:cubicBezTo>
                  <a:pt x="375" y="1243"/>
                  <a:pt x="503" y="1212"/>
                  <a:pt x="534" y="1191"/>
                </a:cubicBezTo>
                <a:cubicBezTo>
                  <a:pt x="569" y="1168"/>
                  <a:pt x="604" y="1161"/>
                  <a:pt x="640" y="1138"/>
                </a:cubicBezTo>
                <a:cubicBezTo>
                  <a:pt x="673" y="1116"/>
                  <a:pt x="712" y="1108"/>
                  <a:pt x="745" y="1086"/>
                </a:cubicBezTo>
                <a:cubicBezTo>
                  <a:pt x="757" y="1068"/>
                  <a:pt x="887" y="976"/>
                  <a:pt x="904" y="963"/>
                </a:cubicBezTo>
                <a:cubicBezTo>
                  <a:pt x="918" y="951"/>
                  <a:pt x="817" y="1025"/>
                  <a:pt x="833" y="1016"/>
                </a:cubicBezTo>
                <a:cubicBezTo>
                  <a:pt x="885" y="990"/>
                  <a:pt x="1084" y="715"/>
                  <a:pt x="1133" y="683"/>
                </a:cubicBezTo>
                <a:cubicBezTo>
                  <a:pt x="1145" y="666"/>
                  <a:pt x="1115" y="753"/>
                  <a:pt x="1045" y="806"/>
                </a:cubicBezTo>
                <a:cubicBezTo>
                  <a:pt x="974" y="876"/>
                  <a:pt x="1200" y="591"/>
                  <a:pt x="1221" y="560"/>
                </a:cubicBezTo>
                <a:cubicBezTo>
                  <a:pt x="1344" y="175"/>
                  <a:pt x="1260" y="441"/>
                  <a:pt x="1309" y="298"/>
                </a:cubicBezTo>
                <a:cubicBezTo>
                  <a:pt x="1309" y="158"/>
                  <a:pt x="1344" y="140"/>
                  <a:pt x="1309" y="0"/>
                </a:cubicBezTo>
                <a:cubicBezTo>
                  <a:pt x="816" y="18"/>
                  <a:pt x="1204" y="36"/>
                  <a:pt x="41" y="0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6"/>
          <p:cNvSpPr/>
          <p:nvPr/>
        </p:nvSpPr>
        <p:spPr>
          <a:xfrm>
            <a:off x="5486400" y="3733920"/>
            <a:ext cx="3124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7"/>
          <p:cNvSpPr/>
          <p:nvPr/>
        </p:nvSpPr>
        <p:spPr>
          <a:xfrm>
            <a:off x="5867280" y="2666880"/>
            <a:ext cx="228600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8"/>
          <p:cNvSpPr/>
          <p:nvPr/>
        </p:nvSpPr>
        <p:spPr>
          <a:xfrm flipV="1">
            <a:off x="6019920" y="2590920"/>
            <a:ext cx="2133360" cy="228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3:40:09Z</dcterms:created>
  <dc:creator>Chelle Daniels</dc:creator>
  <dc:description/>
  <dc:language>en-US</dc:language>
  <cp:lastModifiedBy>Chelle Daniels</cp:lastModifiedBy>
  <dcterms:modified xsi:type="dcterms:W3CDTF">2012-04-16T13:46:54Z</dcterms:modified>
  <cp:revision>2</cp:revision>
  <dc:subject/>
  <dc:title>Slide 1</dc:title>
</cp:coreProperties>
</file>